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2B0-3A26-4D3F-AC9C-D752CD8A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208-F99E-4520-A59F-4D85D202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49C-48C6-4B8B-8210-53F8BC38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56F-B637-4228-A446-E01A7F78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B5FE-6301-43F7-B462-3B60272A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4706-F499-4380-AF98-DC10A5AD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915-E3E5-494B-9947-75C4891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B28D-66A6-4E11-9F86-1E5A80E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727-F821-4FB9-9E6F-47B06838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92E7-8350-46CB-B0F3-109D634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08B7-6FEB-4CFB-8B56-EA9BA26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7DE-0123-4C9A-941B-8D917550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EEDC-EF0E-46FF-B92C-F0404ED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042-AE07-444A-BF61-C8C2C58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4858-9A5E-4165-810E-643E2F3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3774-3083-4045-BC32-7DB6933E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371-08AA-4B58-AB25-257F2939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B97-CAF8-4D13-A707-11D533C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09A-8B4B-4962-B098-34FB4D01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DFB-D4D5-4976-AC0B-41D9E19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77C-CFC4-45E0-87A2-6BCA890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9E2-F57A-4F98-93A5-97FE065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9D0-BFD7-4DD4-A754-F57BFD1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E44-B8E2-4444-B7C8-9258FB1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D82-9F67-47A8-832A-96328ADBF77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ED5-B18A-4329-91BB-AC41C6C01BC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3400" y="1905120"/>
            <a:ext cx="729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Killer Croc”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Anticipation Guide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4360" y="1752480"/>
            <a:ext cx="856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 people who live alon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 Rusizi River only hav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o worry about dangerou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8760" y="1600200"/>
            <a:ext cx="8197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are signs in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Australia telling peopl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ot to swim in the wat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because of crocod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1280" y="1447920"/>
            <a:ext cx="8113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Families on the Rusizi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River have other ways t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bathe, fish, and gath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waters besides gettin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into the river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26320" y="1752480"/>
            <a:ext cx="795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is a crocodil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who has killed hundre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of people in the la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30 year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2560" y="1905120"/>
            <a:ext cx="68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Herpetologists are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scientists who study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rept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51160" y="2133720"/>
            <a:ext cx="574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are ten typ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of crocodilian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400" y="1905120"/>
            <a:ext cx="720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ile crocodiles are foun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in Canada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30320" y="194004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Patrice Faye wanted to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atch Gustave to study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hi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09600" y="1981080"/>
            <a:ext cx="663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y used a human to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ry to catch the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96680" y="2362320"/>
            <a:ext cx="743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s have survive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for 20 thousand year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39360" y="1828800"/>
            <a:ext cx="80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ile crocodiles are small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and less aggressive tha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ir saltwater cousin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1:46:56Z</dcterms:created>
  <dc:creator>New User</dc:creator>
  <dc:description/>
  <dc:language>en-US</dc:language>
  <cp:lastModifiedBy>Rutherford County Schools</cp:lastModifiedBy>
  <dcterms:modified xsi:type="dcterms:W3CDTF">2007-04-21T15:49:21Z</dcterms:modified>
  <cp:revision>1</cp:revision>
  <dc:subject/>
  <dc:title>PowerPoint Presentation</dc:title>
</cp:coreProperties>
</file>